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5282-90E3-4277-9E0E-561212EFE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A6D-DE4C-4B60-8A4A-278A3ACCC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lideshare.net/robswatski/biol-101-chp-9-cellular-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0590-0C9A-4C50-9A22-EF33F7F5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273B-0658-46E2-B685-3CFCEF85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D31-5FB9-4601-9503-F28854CD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ynamicscience.com.au/tester/solutions/chemistry/foodchemistry/carbohydrate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6A2-096E-4CC4-AF80-8A2A95983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3DE3-4985-40DB-8690-55940498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en.wikipedia.org/wiki/File:NAD%2B_phys.sv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8248-3055-4C41-8B18-5915F976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s://wikispaces.psu.edu/download/attachments/46695631/NAD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4FB7-9BD5-4471-BE16-3EF6CDE2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andwalk.blogspot.com/2007/04/riboflavin-vitamin-b2-fmn-and-fad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F0A6-471F-4465-B237-C09EFE0E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98/?rendertype=figure&amp;id=A196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cyclopedia2.thefreedictionary.com/D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2247-314A-427C-893C-479F9E96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cyclopedia2.thefreedictionary.com/D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F8E3-C08B-455E-BA81-6C6EA0C3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2039-8E14-421D-805E-978C115A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ardenandplate.com/sodiumchlor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online.science.psu.edu/biol011_sandbox_7239/node/73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722E-07DB-42B7-B6E0-A3FE4098F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1F9-F111-4DB9-A7C4-B4736A439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4C80-8BE8-41AD-A50A-2361952E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chemprime.chemeddl.org/index.php/CoreChem:Bond_Enthal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A2C-EA07-440A-B3BF-E862744E6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: https://www.khanacademy.org/science/chemistry/oxidation-reduction/redox-oxidation-reduction/v/oxidation-reduction-or-redox-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060B-7E67-481F-AB3C-5147B861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5FD-A20D-41BB-8DD6-104F8E63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F29-3A06-4AA5-B586-0EA7954C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30B-18B4-40A4-B8C7-EC28693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79C-4F3A-42D2-9A30-2FB90364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601-36B9-4AD3-9856-B965353F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E69-A886-4D88-B2DA-B681A49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BA1-2D58-43AA-8D39-8D2F48D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C3C-B9A7-43B3-800E-FF5EEB5C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3D7-7A4B-44D1-8602-9F8B7616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2EE-764B-4E69-9167-A27066F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D89-229A-4159-99D2-DB6A0C7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F8A-E7AF-49B6-BFA6-BB082C2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274E-C8AB-4C03-81AB-63F87F24D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chemistry/oxidation-reduction/redox-oxidation-reduction/v/oxidation-reduction-or-redox-reacti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od As Fu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7" descr="biol-101-chp-9-cellular-respiration-and-fermentation-8-638.jpg"/>
          <p:cNvPicPr/>
          <p:nvPr/>
        </p:nvPicPr>
        <p:blipFill>
          <a:blip r:embed="rId1"/>
          <a:srcRect l="0" t="14747" r="0" b="14747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is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(oxidation) of glucose releases a large amount of therm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ells, oxidation of glucose occurs in a series of steps (controlled oxidation) to minimize 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respirationenergyprofile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in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ntire atoms (with their electrons) are transferred during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ee also 1.1, page 1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+ (nicotinamide adenine dinucleotide) is a coenzyme found in all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iac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363px-NAD+_phys"/>
          <p:cNvPicPr/>
          <p:nvPr/>
        </p:nvPicPr>
        <p:blipFill>
          <a:blip r:embed="rId1"/>
          <a:stretch/>
        </p:blipFill>
        <p:spPr>
          <a:xfrm>
            <a:off x="513864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NAD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NAD"/>
          <p:cNvPicPr/>
          <p:nvPr/>
        </p:nvPicPr>
        <p:blipFill>
          <a:blip r:embed="rId1"/>
          <a:stretch/>
        </p:blipFill>
        <p:spPr>
          <a:xfrm>
            <a:off x="1101600" y="1981080"/>
            <a:ext cx="694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(flavin adenine dinucleotide) is a coenzyme involved in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boflav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Name_This_Molecule_#23"/>
          <p:cNvPicPr/>
          <p:nvPr/>
        </p:nvPicPr>
        <p:blipFill>
          <a:blip r:embed="rId1"/>
          <a:stretch/>
        </p:blipFill>
        <p:spPr>
          <a:xfrm>
            <a:off x="4648320" y="2058840"/>
            <a:ext cx="3809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h14f15"/>
          <p:cNvPicPr/>
          <p:nvPr/>
        </p:nvPicPr>
        <p:blipFill>
          <a:blip r:embed="rId1"/>
          <a:stretch/>
        </p:blipFill>
        <p:spPr>
          <a:xfrm>
            <a:off x="685800" y="2981160"/>
            <a:ext cx="7772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Food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n C-H bonds (like in hydrocarbon fuels, or glucose) are a good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6" descr="Structural-formula-for-x3b1-D-glucose.jpg"/>
          <p:cNvPicPr/>
          <p:nvPr/>
        </p:nvPicPr>
        <p:blipFill>
          <a:blip r:embed="rId1"/>
          <a:srcRect l="0" t="-11543" r="0" b="-11543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from Food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n the non-polar C-H bonds are easily pulled to more electronegative nuclei like in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released as the new bond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4" descr="tang-07-polarity-4-728.jpg"/>
          <p:cNvPicPr/>
          <p:nvPr/>
        </p:nvPicPr>
        <p:blipFill>
          <a:blip r:embed="rId1"/>
          <a:srcRect l="0" t="-21992" r="0" b="-2199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dox reactions, atom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iz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lectrons are lost) and atom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lectrons are gai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ion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2" descr="sodiumchloridereaction3.jpg"/>
          <p:cNvPicPr/>
          <p:nvPr/>
        </p:nvPicPr>
        <p:blipFill>
          <a:blip r:embed="rId1"/>
          <a:srcRect l="-920" t="0" r="-92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3" descr="Fig-4-1-Redox-Reaction.gif"/>
          <p:cNvPicPr/>
          <p:nvPr/>
        </p:nvPicPr>
        <p:blipFill>
          <a:blip r:embed="rId1"/>
          <a:srcRect l="0" t="-4885" r="0" b="-4885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e/at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reduc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iz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e/at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oxidiz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ee also 1.1, page 1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can occur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s or gain of electrons due to electronegativity differen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effectively oxidized, O is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Methane_combustion.jpg"/>
          <p:cNvPicPr/>
          <p:nvPr/>
        </p:nvPicPr>
        <p:blipFill>
          <a:blip r:embed="rId1"/>
          <a:stretch/>
        </p:blipFill>
        <p:spPr>
          <a:xfrm>
            <a:off x="480960" y="1959120"/>
            <a:ext cx="81946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an Acad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ly explains how atoms are reduced/oxidized in the combustion of meth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xidation st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concept that imagines polar covalent bonds as ionic to indicate the relative positions of th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4:20:41Z</dcterms:created>
  <dc:creator>rubina khan</dc:creator>
  <dc:description/>
  <dc:language>en-US</dc:language>
  <cp:lastModifiedBy>rubina khan</cp:lastModifiedBy>
  <dcterms:modified xsi:type="dcterms:W3CDTF">2017-05-30T10:27:48Z</dcterms:modified>
  <cp:revision>80</cp:revision>
  <dc:subject/>
  <dc:title>3.3 Enzymes &amp; Ea 3.4 Food As Fuel</dc:title>
</cp:coreProperties>
</file>